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0BBD-5A23-4EC3-B864-B65EA9CCF16E}"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328C-7A23-48A3-824B-B8CD0DF415F8}"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5966A-6A5B-444F-BF6F-50E60D7CB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35548-B77B-4E8F-9267-914B22991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F5CFF-9E7D-45D5-9405-BEDF27890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23B31-B76C-4C26-BD85-6A28C9D5F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B6E6E-2BFD-4C2B-8121-2226BF1BC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918BA-8F66-429D-B828-6F91D9DB5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8352A-7ED5-4566-9EB7-870CD3178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56938-B8A0-4668-88FA-CC4A4F892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91FBC-1B9D-4320-8F0D-B5E9F3962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CCDC7-64E4-44EF-A03F-00A696BB4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C0EBC-E71C-45A8-9E83-11270E50B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5C048-B3C3-4F40-90CF-7DF1B4056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99BB-783D-49F8-864C-3818CBC9741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13000"/>
            <a:ext cx="7772400" cy="358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TÜRKÇENİN SES ÖZELLİKLERİ VE SES BİLGİSİ İLE İLGİLİ KURALLAR</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8. BAŞTA ÇİFT ÜNSÜZ</a:t>
            </a:r>
            <a:endParaRPr b="0" lang="en-US" sz="32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kelimelerin başında çift ünsüz bulunmaz. Bu şekilde kullanılan kelimelerin hepsi Türkçeye başka dillerden girmişt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Grup, tren, klasik, klima, program, spo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9. SONDA ÇİFT ÜNSÜZ</a:t>
            </a:r>
            <a:endParaRPr b="0" lang="en-US" sz="32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Hece ve kelime sonunda, aşağıdaki ünsüz çiftleri dışında ünsüz grupları bulunmaz:</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lç, lk,lp, lt: </a:t>
            </a:r>
            <a:r>
              <a:rPr b="0" lang="tr-TR" sz="2200" spc="-1" strike="noStrike">
                <a:solidFill>
                  <a:srgbClr val="ff0000"/>
                </a:solidFill>
                <a:latin typeface="Times New Roman"/>
                <a:ea typeface="Times New Roman"/>
              </a:rPr>
              <a:t>ölç, ilk, kalp, al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ç,nk,nt: </a:t>
            </a:r>
            <a:r>
              <a:rPr b="0" lang="tr-TR" sz="2200" spc="-1" strike="noStrike">
                <a:solidFill>
                  <a:srgbClr val="ff0000"/>
                </a:solidFill>
                <a:latin typeface="Times New Roman"/>
                <a:ea typeface="Times New Roman"/>
              </a:rPr>
              <a:t>sevinç, denk, an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rç, rk,rp,rs,rt: </a:t>
            </a:r>
            <a:r>
              <a:rPr b="0" lang="tr-TR" sz="2200" spc="-1" strike="noStrike">
                <a:solidFill>
                  <a:srgbClr val="ff0000"/>
                </a:solidFill>
                <a:latin typeface="Times New Roman"/>
                <a:ea typeface="Times New Roman"/>
              </a:rPr>
              <a:t>sürç, ürk, sarp</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t: </a:t>
            </a:r>
            <a:r>
              <a:rPr b="0" lang="tr-TR" sz="2200" spc="-1" strike="noStrike">
                <a:solidFill>
                  <a:srgbClr val="ff0000"/>
                </a:solidFill>
                <a:latin typeface="Times New Roman"/>
                <a:ea typeface="Times New Roman"/>
              </a:rPr>
              <a:t>üs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Dile başka dillerden girmiş kelimelerden bu ses özelliğine uymayanlar, araya bir ünlü getirilmek suretiyle Türkçeye uydurulmuştu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ff0000"/>
                </a:solidFill>
                <a:latin typeface="Times New Roman"/>
                <a:ea typeface="Times New Roman"/>
              </a:rPr>
              <a:t>Fikr&gt; fiki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İlm&gt; ili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Şükr&gt; şükü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0. İKİ ÜNLÜ</a:t>
            </a:r>
            <a:endParaRPr b="0" lang="en-US" sz="32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de iki ünlü yan yana gelme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Jeolog, realist, kıraat, fiil, faul v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ki ünlü yan yana gelmediği için ünlüyle biten kelimeler, ünlüyle biten ekler aldığı zaman araya -y- sesi gir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İki-y-e, soru-y-u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1. TABİAT TAKLİDİ KELİMELER</a:t>
            </a:r>
            <a:endParaRPr b="0" lang="en-US" sz="32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abiat taklidi kelimeler için ses özellikleri açısından herhangi bir sınırlama yoktur.  Bunlar hangi sesle başlarsa başlasın, içinde hangi ses bulunursa bulunsun Türkçe kabul edilebil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Fokurtu, hışırtı, miyavlamak, öf, püf, zonklamak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2. SES UYUMLARI</a:t>
            </a:r>
            <a:endParaRPr b="0" lang="en-US" sz="32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yi diğer dillerden ayıran özelliklerden biri de ses uyumlarıdır. Bu uyumlar Türkçe kelimelerde ancak belirli seslerin bir arada bulunmasını gerektiri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de büyük ünlü uyumu, küçük ünlü uyumu, ünsüz uyumu ve ünlü- ünsüz uyumu olmak üzere dört çeşit uyumdan söz edebiliriz:</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85840" y="356760"/>
            <a:ext cx="8400960" cy="5769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üyük Ünlü Uyumu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çe kelimelerde kalın ünlüleri kalın, ince ünlüleri ince ünlülerin takip etmesi olayıd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çe olup sonradan ses değişikliğine uğrayan anne, kardeş, hangi… gibi kelimeler, -yor, -ken, -leyin, -mtrak, -ki eklerini almış kelimeler, bazı birleşik kelimeler ve yansıma kelimeler istisnad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85840" y="428760"/>
            <a:ext cx="8400960" cy="5697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Küçük Ünlü Uyumu</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ir kelimedeki ünlülerin düzlük ve yuvarlaklık bakımından birbirine uymasıdır. Kural şudu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üz ünlüleri </a:t>
            </a:r>
            <a:r>
              <a:rPr b="0" lang="tr-TR" sz="2800" spc="-1" strike="noStrike">
                <a:solidFill>
                  <a:srgbClr val="ff0000"/>
                </a:solidFill>
                <a:latin typeface="Times New Roman"/>
                <a:ea typeface="Times New Roman"/>
              </a:rPr>
              <a:t>(a, e, ı, i) </a:t>
            </a:r>
            <a:r>
              <a:rPr b="0" lang="tr-TR" sz="2800" spc="-1" strike="noStrike">
                <a:solidFill>
                  <a:srgbClr val="000000"/>
                </a:solidFill>
                <a:latin typeface="Times New Roman"/>
                <a:ea typeface="Times New Roman"/>
              </a:rPr>
              <a:t>düzler takip eder: </a:t>
            </a:r>
            <a:r>
              <a:rPr b="0" lang="tr-TR" sz="2800" spc="-1" strike="noStrike">
                <a:solidFill>
                  <a:srgbClr val="ff0000"/>
                </a:solidFill>
                <a:latin typeface="Times New Roman"/>
                <a:ea typeface="Times New Roman"/>
              </a:rPr>
              <a:t>açık, birinci, sıcak, sevgi vb.</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uvarlak ünlüleri </a:t>
            </a:r>
            <a:r>
              <a:rPr b="0" lang="tr-TR" sz="2800" spc="-1" strike="noStrike">
                <a:solidFill>
                  <a:srgbClr val="ff0000"/>
                </a:solidFill>
                <a:latin typeface="Times New Roman"/>
                <a:ea typeface="Times New Roman"/>
              </a:rPr>
              <a:t>(o, ö, u, ü) </a:t>
            </a:r>
            <a:r>
              <a:rPr b="0" lang="tr-TR" sz="2800" spc="-1" strike="noStrike">
                <a:solidFill>
                  <a:srgbClr val="000000"/>
                </a:solidFill>
                <a:latin typeface="Times New Roman"/>
                <a:ea typeface="Times New Roman"/>
              </a:rPr>
              <a:t>ise, düz geniş </a:t>
            </a:r>
            <a:r>
              <a:rPr b="0" lang="tr-TR" sz="2800" spc="-1" strike="noStrike">
                <a:solidFill>
                  <a:srgbClr val="ff0000"/>
                </a:solidFill>
                <a:latin typeface="Times New Roman"/>
                <a:ea typeface="Times New Roman"/>
              </a:rPr>
              <a:t>(a, e) </a:t>
            </a:r>
            <a:r>
              <a:rPr b="0" lang="tr-TR" sz="2800" spc="-1" strike="noStrike">
                <a:solidFill>
                  <a:srgbClr val="000000"/>
                </a:solidFill>
                <a:latin typeface="Times New Roman"/>
                <a:ea typeface="Times New Roman"/>
              </a:rPr>
              <a:t>veya dar yuvarlaklar </a:t>
            </a:r>
            <a:r>
              <a:rPr b="0" lang="tr-TR" sz="2800" spc="-1" strike="noStrike">
                <a:solidFill>
                  <a:srgbClr val="ff0000"/>
                </a:solidFill>
                <a:latin typeface="Times New Roman"/>
                <a:ea typeface="Times New Roman"/>
              </a:rPr>
              <a:t>(u, ü) </a:t>
            </a:r>
            <a:r>
              <a:rPr b="0" lang="tr-TR" sz="2800" spc="-1" strike="noStrike">
                <a:solidFill>
                  <a:srgbClr val="000000"/>
                </a:solidFill>
                <a:latin typeface="Times New Roman"/>
                <a:ea typeface="Times New Roman"/>
              </a:rPr>
              <a:t>takip eder: </a:t>
            </a:r>
            <a:r>
              <a:rPr b="0" lang="tr-TR" sz="2800" spc="-1" strike="noStrike">
                <a:solidFill>
                  <a:srgbClr val="ff0000"/>
                </a:solidFill>
                <a:latin typeface="Times New Roman"/>
                <a:ea typeface="Times New Roman"/>
              </a:rPr>
              <a:t>ocak, oduncular, uzatma, üçüncü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13840" y="214200"/>
            <a:ext cx="8472600" cy="5911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3. Ünsüz Uyumu</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Türkçe kelimelerde tonlu (sedalı) ünsüzler (b, c, d, g, ğ, j, m, n, r, v, y, z) tonlu ünsüzlerle, tonsuz (sedasız) ünsüzler (ç, f, h, k, p, s, ş, t) tonsuz ünsüzlerle yan yana gelebili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Aşçı, atkı, geçti, evci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13840" y="142920"/>
            <a:ext cx="8472600" cy="5983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4. Ünlü-Ünsüz Uyumu</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Türkçe kelimelerde art damak “k(a), g(ı), ğ(ı), l(ı)” ünsüzlerinin art (kalın) ünlülerle(a, ı, o, u), ön damak “g(e), k(e), l(i)” ünsüzlerinin ön (ince) ünlülerle (e, i, ö, ü) aynı hecede bulunmasından ortaya çıkan bir uyumdu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Bozgun, kuzgun, tatlı vb.</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Görüntü, kesik,  gezi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ÇEDEKİ SES OLAYLARI</a:t>
            </a:r>
            <a:endParaRPr b="0" lang="en-US" sz="32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eslerin kelimelerde birleşmesi sırasında bir takım olaylar meydana gelir. İşte bunlara ses olayları denir. Başlıcaları şunlardı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Türemesi: </a:t>
            </a:r>
            <a:r>
              <a:rPr b="0" lang="tr-TR" sz="2800" spc="-1" strike="noStrike">
                <a:solidFill>
                  <a:srgbClr val="000000"/>
                </a:solidFill>
                <a:latin typeface="Times New Roman"/>
                <a:ea typeface="Times New Roman"/>
              </a:rPr>
              <a:t>Kelimenin aslında bulunmayan bir ünlünün kelimenin başı, ortası ya da sonunda ortaya çıkmasıdır. </a:t>
            </a:r>
            <a:r>
              <a:rPr b="0" lang="tr-TR" sz="2800" spc="-1" strike="noStrike">
                <a:solidFill>
                  <a:srgbClr val="00b0f0"/>
                </a:solidFill>
                <a:latin typeface="Times New Roman"/>
                <a:ea typeface="Times New Roman"/>
              </a:rPr>
              <a:t>i</a:t>
            </a:r>
            <a:r>
              <a:rPr b="0" lang="tr-TR" sz="2800" spc="-1" strike="noStrike">
                <a:solidFill>
                  <a:srgbClr val="000000"/>
                </a:solidFill>
                <a:latin typeface="Times New Roman"/>
                <a:ea typeface="Times New Roman"/>
              </a:rPr>
              <a:t>stasyon, </a:t>
            </a:r>
            <a:r>
              <a:rPr b="0" lang="tr-TR" sz="2800" spc="-1" strike="noStrike">
                <a:solidFill>
                  <a:srgbClr val="00b0f0"/>
                </a:solidFill>
                <a:latin typeface="Times New Roman"/>
                <a:ea typeface="Times New Roman"/>
              </a:rPr>
              <a:t>ı</a:t>
            </a:r>
            <a:r>
              <a:rPr b="0" lang="tr-TR" sz="2800" spc="-1" strike="noStrike">
                <a:solidFill>
                  <a:srgbClr val="000000"/>
                </a:solidFill>
                <a:latin typeface="Times New Roman"/>
                <a:ea typeface="Times New Roman"/>
              </a:rPr>
              <a:t>stampa, şük</a:t>
            </a:r>
            <a:r>
              <a:rPr b="0" lang="tr-TR" sz="2800" spc="-1" strike="noStrike">
                <a:solidFill>
                  <a:srgbClr val="00b0f0"/>
                </a:solidFill>
                <a:latin typeface="Times New Roman"/>
                <a:ea typeface="Times New Roman"/>
              </a:rPr>
              <a:t>ü</a:t>
            </a:r>
            <a:r>
              <a:rPr b="0" lang="tr-TR" sz="2800" spc="-1" strike="noStrike">
                <a:solidFill>
                  <a:srgbClr val="000000"/>
                </a:solidFill>
                <a:latin typeface="Times New Roman"/>
                <a:ea typeface="Times New Roman"/>
              </a:rPr>
              <a:t>r, az</a:t>
            </a:r>
            <a:r>
              <a:rPr b="0" lang="tr-TR" sz="2800" spc="-1" strike="noStrike">
                <a:solidFill>
                  <a:srgbClr val="00b0f0"/>
                </a:solidFill>
                <a:latin typeface="Times New Roman"/>
                <a:ea typeface="Times New Roman"/>
              </a:rPr>
              <a:t>ı</a:t>
            </a:r>
            <a:r>
              <a:rPr b="0" lang="tr-TR" sz="2800" spc="-1" strike="noStrike">
                <a:solidFill>
                  <a:srgbClr val="000000"/>
                </a:solidFill>
                <a:latin typeface="Times New Roman"/>
                <a:ea typeface="Times New Roman"/>
              </a:rPr>
              <a:t>cık, giderken</a:t>
            </a:r>
            <a:r>
              <a:rPr b="0" lang="tr-TR" sz="2800" spc="-1" strike="noStrike">
                <a:solidFill>
                  <a:srgbClr val="00b0f0"/>
                </a:solidFill>
                <a:latin typeface="Times New Roman"/>
                <a:ea typeface="Times New Roman"/>
              </a:rPr>
              <a:t>e</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57120" y="500040"/>
            <a:ext cx="8329680" cy="5626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in söz varlığını oluşturan kelimelerin kuruluşunda ses özellikleri birinci derecede rol oynar. Sesler birleşerek heceleri, heceler birleşerek kelimeleri oluşturur. Ancak bu birleşme gelişigüzel değil dilin ses özelliklerine göre, dilin kanunlarına göre, bir düzen içerisinde gerçekleşir. Her dilin kendine özgü sesleri olduğu gibi bu seslerin yan yana gelmeleri, kelime başında, ortasında veya sonunda bulunmaları belli kurallara bağlıdır. Dilin temelini oluşturan seslerin bu düzenine ses özellikleri diyoruz.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nin belli başlı ses özelliklerini şöyle sıralayabiliriz:</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971280" y="692280"/>
            <a:ext cx="7962840" cy="55562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Düşmesi: </a:t>
            </a:r>
            <a:r>
              <a:rPr b="0" lang="tr-TR" sz="2800" spc="-1" strike="noStrike">
                <a:solidFill>
                  <a:srgbClr val="000000"/>
                </a:solidFill>
                <a:latin typeface="Times New Roman"/>
                <a:ea typeface="Times New Roman"/>
              </a:rPr>
              <a:t>Genellikle orta hecenin vurgusuz olmasından dolayı ortadaki dar ünlünün düşmesidir. </a:t>
            </a:r>
            <a:r>
              <a:rPr b="0" lang="tr-TR" sz="2800" spc="-1" strike="noStrike">
                <a:solidFill>
                  <a:srgbClr val="00b0f0"/>
                </a:solidFill>
                <a:latin typeface="Times New Roman"/>
                <a:ea typeface="Times New Roman"/>
              </a:rPr>
              <a:t>Oğulu </a:t>
            </a:r>
            <a:r>
              <a:rPr b="0" lang="tr-TR" sz="2800" spc="-1" strike="noStrike">
                <a:solidFill>
                  <a:srgbClr val="000000"/>
                </a:solidFill>
                <a:latin typeface="Times New Roman"/>
                <a:ea typeface="Times New Roman"/>
              </a:rPr>
              <a:t>yerine </a:t>
            </a:r>
            <a:r>
              <a:rPr b="0" lang="tr-TR" sz="2800" spc="-1" strike="noStrike">
                <a:solidFill>
                  <a:srgbClr val="00b0f0"/>
                </a:solidFill>
                <a:latin typeface="Times New Roman"/>
                <a:ea typeface="Times New Roman"/>
              </a:rPr>
              <a:t>oğlu</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ömürüm </a:t>
            </a:r>
            <a:r>
              <a:rPr b="0" lang="tr-TR" sz="2800" spc="-1" strike="noStrike">
                <a:solidFill>
                  <a:srgbClr val="000000"/>
                </a:solidFill>
                <a:latin typeface="Times New Roman"/>
                <a:ea typeface="Times New Roman"/>
              </a:rPr>
              <a:t>yerine </a:t>
            </a:r>
            <a:r>
              <a:rPr b="0" lang="tr-TR" sz="2800" spc="-1" strike="noStrike">
                <a:solidFill>
                  <a:srgbClr val="00b0f0"/>
                </a:solidFill>
                <a:latin typeface="Times New Roman"/>
                <a:ea typeface="Times New Roman"/>
              </a:rPr>
              <a:t>ömrüm…</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Değişmesi: </a:t>
            </a:r>
            <a:r>
              <a:rPr b="0" lang="tr-TR" sz="2800" spc="-1" strike="noStrike">
                <a:solidFill>
                  <a:srgbClr val="000000"/>
                </a:solidFill>
                <a:latin typeface="Times New Roman"/>
                <a:ea typeface="Times New Roman"/>
              </a:rPr>
              <a:t>Orta hecedeki vurgusuz ünlü bazen düşmez, sadece  değişir. Örneğin, </a:t>
            </a:r>
            <a:r>
              <a:rPr b="0" lang="tr-TR" sz="2800" spc="-1" strike="noStrike">
                <a:solidFill>
                  <a:srgbClr val="00b0f0"/>
                </a:solidFill>
                <a:latin typeface="Times New Roman"/>
                <a:ea typeface="Times New Roman"/>
              </a:rPr>
              <a:t>başlayor</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başlıyor</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bilmeyor</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bilmiyor</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Birleşmesi: </a:t>
            </a:r>
            <a:r>
              <a:rPr b="0" lang="tr-TR" sz="2800" spc="-1" strike="noStrike">
                <a:solidFill>
                  <a:srgbClr val="000000"/>
                </a:solidFill>
                <a:latin typeface="Times New Roman"/>
                <a:ea typeface="Times New Roman"/>
              </a:rPr>
              <a:t>Ünlü ile biten bir kelimenin ünlü ile başlayan bir ek alması ya da ünlü ile başlayan bir başka kelime ile birleşmesi durumunda ünlülerden birinin düşmesidir. </a:t>
            </a:r>
            <a:r>
              <a:rPr b="0" lang="tr-TR" sz="2800" spc="-1" strike="noStrike">
                <a:solidFill>
                  <a:srgbClr val="00b0f0"/>
                </a:solidFill>
                <a:latin typeface="Times New Roman"/>
                <a:ea typeface="Times New Roman"/>
              </a:rPr>
              <a:t>Kahvealtı</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kahvaltı</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ne için </a:t>
            </a:r>
            <a:r>
              <a:rPr b="0" lang="tr-TR" sz="2800" spc="-1" strike="noStrike">
                <a:solidFill>
                  <a:srgbClr val="000000"/>
                </a:solidFill>
                <a:latin typeface="Times New Roman"/>
                <a:ea typeface="Times New Roman"/>
              </a:rPr>
              <a:t>yerine </a:t>
            </a:r>
            <a:r>
              <a:rPr b="0" lang="tr-TR" sz="2800" spc="-1" strike="noStrike">
                <a:solidFill>
                  <a:srgbClr val="00b0f0"/>
                </a:solidFill>
                <a:latin typeface="Times New Roman"/>
                <a:ea typeface="Times New Roman"/>
              </a:rPr>
              <a:t>niçin</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900000" y="692280"/>
            <a:ext cx="8034480" cy="55562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süz Türemesi: </a:t>
            </a:r>
            <a:r>
              <a:rPr b="0" lang="tr-TR" sz="2800" spc="-1" strike="noStrike">
                <a:solidFill>
                  <a:srgbClr val="000000"/>
                </a:solidFill>
                <a:latin typeface="Times New Roman"/>
                <a:ea typeface="Times New Roman"/>
              </a:rPr>
              <a:t>Kelimenin aslında bulunmayan bir ünsüzün sonradan ortaya çıkmasıdır. </a:t>
            </a:r>
            <a:r>
              <a:rPr b="0" lang="tr-TR" sz="2800" spc="-1" strike="noStrike">
                <a:solidFill>
                  <a:srgbClr val="00b0f0"/>
                </a:solidFill>
                <a:latin typeface="Times New Roman"/>
                <a:ea typeface="Times New Roman"/>
              </a:rPr>
              <a:t>ur</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vur</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ıldız</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yıldız</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kılıç</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kılınç</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şimdi</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şimdik, su-y-a, bilgi-</a:t>
            </a:r>
            <a:r>
              <a:rPr b="0" lang="tr-TR" sz="2800" spc="-1" strike="noStrike">
                <a:solidFill>
                  <a:srgbClr val="558ed5"/>
                </a:solidFill>
                <a:latin typeface="Times New Roman"/>
                <a:ea typeface="Times New Roman"/>
              </a:rPr>
              <a:t>y</a:t>
            </a:r>
            <a:r>
              <a:rPr b="0" lang="tr-TR" sz="2800" spc="-1" strike="noStrike">
                <a:solidFill>
                  <a:srgbClr val="00b0f0"/>
                </a:solidFill>
                <a:latin typeface="Times New Roman"/>
                <a:ea typeface="Times New Roman"/>
              </a:rPr>
              <a:t>-e</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süz Düşmesi: </a:t>
            </a:r>
            <a:r>
              <a:rPr b="0" lang="tr-TR" sz="2800" spc="-1" strike="noStrike">
                <a:solidFill>
                  <a:srgbClr val="000000"/>
                </a:solidFill>
                <a:latin typeface="Times New Roman"/>
                <a:ea typeface="Times New Roman"/>
              </a:rPr>
              <a:t>Kelimedeki ünsüzlerden birinin çeşitli sebeplerle düşmesidir. Mesela, </a:t>
            </a:r>
            <a:r>
              <a:rPr b="0" lang="tr-TR" sz="2800" spc="-1" strike="noStrike">
                <a:solidFill>
                  <a:srgbClr val="00b0f0"/>
                </a:solidFill>
                <a:latin typeface="Times New Roman"/>
                <a:ea typeface="Times New Roman"/>
              </a:rPr>
              <a:t>küçükcük</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küçücük</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yumuşakcık</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yumuşacık</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Yer değiştirme (göçüşme): </a:t>
            </a:r>
            <a:r>
              <a:rPr b="0" lang="tr-TR" sz="2800" spc="-1" strike="noStrike">
                <a:solidFill>
                  <a:srgbClr val="000000"/>
                </a:solidFill>
                <a:latin typeface="Times New Roman"/>
                <a:ea typeface="Times New Roman"/>
              </a:rPr>
              <a:t>Bir kelimede yan yana gelen seslerin yerlerinin değişmesi olayıdır. </a:t>
            </a:r>
            <a:r>
              <a:rPr b="0" lang="tr-TR" sz="2800" spc="-1" strike="noStrike">
                <a:solidFill>
                  <a:srgbClr val="00b0f0"/>
                </a:solidFill>
                <a:latin typeface="Times New Roman"/>
                <a:ea typeface="Times New Roman"/>
              </a:rPr>
              <a:t>kibrit</a:t>
            </a:r>
            <a:r>
              <a:rPr b="0" lang="tr-TR" sz="2800" spc="-1" strike="noStrike">
                <a:solidFill>
                  <a:srgbClr val="000000"/>
                </a:solidFill>
                <a:latin typeface="Times New Roman"/>
                <a:ea typeface="Times New Roman"/>
              </a:rPr>
              <a:t> yerine</a:t>
            </a:r>
            <a:r>
              <a:rPr b="0" lang="tr-TR" sz="2800" spc="-1" strike="noStrike">
                <a:solidFill>
                  <a:srgbClr val="00b0f0"/>
                </a:solidFill>
                <a:latin typeface="Times New Roman"/>
                <a:ea typeface="Times New Roman"/>
              </a:rPr>
              <a:t> kirbit</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ekşi</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eşki</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memleket</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melmeket</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971280" y="333000"/>
            <a:ext cx="7962840" cy="591516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Hece Düşmesi: </a:t>
            </a:r>
            <a:r>
              <a:rPr b="0" lang="tr-TR" sz="2800" spc="-1" strike="noStrike">
                <a:solidFill>
                  <a:srgbClr val="000000"/>
                </a:solidFill>
                <a:latin typeface="Times New Roman"/>
                <a:ea typeface="Times New Roman"/>
              </a:rPr>
              <a:t>Ard arda gelen ve sesleri benzeyen iki hecenin bir hece haline gelmesidir. </a:t>
            </a:r>
            <a:r>
              <a:rPr b="0" lang="tr-TR" sz="2800" spc="-1" strike="noStrike">
                <a:solidFill>
                  <a:srgbClr val="00b0f0"/>
                </a:solidFill>
                <a:latin typeface="Times New Roman"/>
                <a:ea typeface="Times New Roman"/>
              </a:rPr>
              <a:t>Pekiyi-peki, kilitlemek-kitlemek, söyleyeyim-söyleyim</a:t>
            </a:r>
            <a:r>
              <a:rPr b="0"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enzeşme: </a:t>
            </a:r>
            <a:r>
              <a:rPr b="0" lang="tr-TR" sz="2800" spc="-1" strike="noStrike">
                <a:solidFill>
                  <a:srgbClr val="000000"/>
                </a:solidFill>
                <a:latin typeface="Times New Roman"/>
                <a:ea typeface="Times New Roman"/>
              </a:rPr>
              <a:t>Seslerden birinin diğerini kendisine benzetmesi olayıdır. Seda benzeşmesi, oluşum noktası benzeşmesi, geniz benzeşmesi, düzlük yuvarlaklık benzeşmesi gibi.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a:t>
            </a:r>
            <a:r>
              <a:rPr b="0" lang="tr-TR" sz="2800" spc="-1" strike="noStrike">
                <a:solidFill>
                  <a:srgbClr val="00b0f0"/>
                </a:solidFill>
                <a:latin typeface="Times New Roman"/>
                <a:ea typeface="Times New Roman"/>
              </a:rPr>
              <a:t>ld</a:t>
            </a:r>
            <a:r>
              <a:rPr b="0" lang="tr-TR" sz="2800" spc="-1" strike="noStrike">
                <a:solidFill>
                  <a:srgbClr val="000000"/>
                </a:solidFill>
                <a:latin typeface="Times New Roman"/>
                <a:ea typeface="Times New Roman"/>
              </a:rPr>
              <a:t>ı, ge</a:t>
            </a:r>
            <a:r>
              <a:rPr b="0" lang="tr-TR" sz="2800" spc="-1" strike="noStrike">
                <a:solidFill>
                  <a:srgbClr val="00b0f0"/>
                </a:solidFill>
                <a:latin typeface="Times New Roman"/>
                <a:ea typeface="Times New Roman"/>
              </a:rPr>
              <a:t>çt</a:t>
            </a:r>
            <a:r>
              <a:rPr b="0" lang="tr-TR" sz="2800" spc="-1" strike="noStrike">
                <a:solidFill>
                  <a:srgbClr val="000000"/>
                </a:solidFill>
                <a:latin typeface="Times New Roman"/>
                <a:ea typeface="Times New Roman"/>
              </a:rPr>
              <a:t>i; </a:t>
            </a:r>
            <a:endParaRPr b="0" lang="en-US" sz="2800" spc="-1" strike="noStrike">
              <a:solidFill>
                <a:srgbClr val="000000"/>
              </a:solidFill>
              <a:latin typeface="Calibri"/>
            </a:endParaRPr>
          </a:p>
          <a:p>
            <a:pPr marL="3430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b0f0"/>
                </a:solidFill>
                <a:latin typeface="Times New Roman"/>
                <a:ea typeface="Times New Roman"/>
              </a:rPr>
              <a:t>anbar-ambar, sünbül-sümbül; </a:t>
            </a:r>
            <a:endParaRPr b="0" lang="en-US" sz="2800" spc="-1" strike="noStrike">
              <a:solidFill>
                <a:srgbClr val="000000"/>
              </a:solidFill>
              <a:latin typeface="Calibri"/>
            </a:endParaRPr>
          </a:p>
          <a:p>
            <a:pPr marL="3430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b0f0"/>
                </a:solidFill>
                <a:latin typeface="Times New Roman"/>
                <a:ea typeface="Times New Roman"/>
              </a:rPr>
              <a:t>ben-men, binmek-minmek; </a:t>
            </a:r>
            <a:endParaRPr b="0" lang="en-US" sz="2800" spc="-1" strike="noStrike">
              <a:solidFill>
                <a:srgbClr val="000000"/>
              </a:solidFill>
              <a:latin typeface="Calibri"/>
            </a:endParaRPr>
          </a:p>
          <a:p>
            <a:pPr marL="3430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b0f0"/>
                </a:solidFill>
                <a:latin typeface="Times New Roman"/>
                <a:ea typeface="Times New Roman"/>
              </a:rPr>
              <a:t>çünki-çünkü, karşu-karşı, kaygu-kaygı</a:t>
            </a:r>
            <a:r>
              <a:rPr b="0"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285840" y="428760"/>
            <a:ext cx="8400960" cy="5697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ELİME İNCELEMELERİ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Olmayan Kelimel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Vilâye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 Ünlü uyumu yok.</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 Uzun ünlü var.</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3. Kelime başında v sesi v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85840" y="356760"/>
            <a:ext cx="8400960" cy="5769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Monitör:</a:t>
            </a: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1. Kelime başında m sesi var.</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Ünlü uyumu yok. </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3. İlk hece dışında ö kullanılmı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213840" y="356760"/>
            <a:ext cx="8472600" cy="5769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Faks:  </a:t>
            </a:r>
            <a:r>
              <a:rPr b="0" lang="tr-TR" sz="2800" spc="-1" strike="noStrike">
                <a:solidFill>
                  <a:srgbClr val="000000"/>
                </a:solidFill>
                <a:latin typeface="Times New Roman"/>
                <a:ea typeface="Times New Roman"/>
              </a:rPr>
              <a:t>1. f sesi va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Kelime sonunda –ks ünsüz grubu va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85840" y="428760"/>
            <a:ext cx="8400960" cy="569736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Teşekkür:  </a:t>
            </a:r>
            <a:r>
              <a:rPr b="0" lang="tr-TR" sz="2800" spc="-1" strike="noStrike">
                <a:solidFill>
                  <a:srgbClr val="000000"/>
                </a:solidFill>
                <a:latin typeface="Times New Roman"/>
                <a:ea typeface="Times New Roman"/>
              </a:rPr>
              <a:t>1. Ünlü uyumu yo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İkiz ünsüz va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13840" y="285480"/>
            <a:ext cx="8472600" cy="58402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Mürâcaat:  </a:t>
            </a:r>
            <a:r>
              <a:rPr b="0" lang="tr-TR" sz="2800" spc="-1" strike="noStrike">
                <a:solidFill>
                  <a:srgbClr val="000000"/>
                </a:solidFill>
                <a:latin typeface="Times New Roman"/>
                <a:ea typeface="Times New Roman"/>
              </a:rPr>
              <a:t>1. Ünlü uyumu yo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Başta m sesi va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3. İki ünlü yan yana gelmişt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4. Uzun ünlü v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9"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A252-FEAF-44CA-A518-61D5F7F96F42}"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 UZUN ÜNLÜ</a:t>
            </a:r>
            <a:endParaRPr b="0" lang="en-US" sz="32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asıllı kelimelerde bir iki istisna dışında  (yad, yarın) uzun ünlü yoktur. Buna karşılık Türkçeye yabancı dillerden girmiş kelimelerde uzun a,i,u (â,î,û) ünlüleri bol bol ve rahatça kullanılmaktad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Kâtip, istiklâl, âlem, şâir vb.</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2. O, Ö ÜNLÜLERİ</a:t>
            </a:r>
            <a:endParaRPr b="0" lang="en-US" sz="32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de “o ve ö” ünlüleri (-yor eki dışında) yalnız ilk hecede bulunurlar.İlk hece dışında “o ve ö” ünlülerini taşıyan kelimeler Türkçe değild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Otomobil,rektör, traktör,radyo,horoz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3. J, F, H SESLERİ</a:t>
            </a:r>
            <a:endParaRPr b="0" lang="en-US" sz="32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J sesi taşıyan bütün kelimeler dilimize başka dillerden girmiştir: </a:t>
            </a:r>
            <a:r>
              <a:rPr b="0" lang="tr-TR" sz="2800" spc="-1" strike="noStrike">
                <a:solidFill>
                  <a:srgbClr val="ff0000"/>
                </a:solidFill>
                <a:latin typeface="Times New Roman"/>
                <a:ea typeface="Times New Roman"/>
              </a:rPr>
              <a:t>Jandarma, jilet, jokey, jüri v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kaç istisna dışında (öfke, yufka) f sesi taşıyan kelimeler dilimize başka dillerden girmiştir: </a:t>
            </a:r>
            <a:r>
              <a:rPr b="0" lang="tr-TR" sz="2800" spc="-1" strike="noStrike">
                <a:solidFill>
                  <a:srgbClr val="ff0000"/>
                </a:solidFill>
                <a:latin typeface="Times New Roman"/>
                <a:ea typeface="Times New Roman"/>
              </a:rPr>
              <a:t>Misafir, fesat, felsefe v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ani, hangi, dahi dışında h sesi taşıyan kelimeler de dilimize başka dillerden girmiştir: </a:t>
            </a:r>
            <a:r>
              <a:rPr b="0" lang="tr-TR" sz="2800" spc="-1" strike="noStrike">
                <a:solidFill>
                  <a:srgbClr val="ff0000"/>
                </a:solidFill>
                <a:latin typeface="Times New Roman"/>
                <a:ea typeface="Times New Roman"/>
              </a:rPr>
              <a:t>Harika, hamur, handan, halte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tr-TR" sz="3200" spc="-1" strike="noStrike">
                <a:solidFill>
                  <a:srgbClr val="000000"/>
                </a:solidFill>
                <a:latin typeface="Times New Roman"/>
                <a:ea typeface="Times New Roman"/>
              </a:rPr>
              <a:t>4.BAŞTA BULUNMAYAN SESLER</a:t>
            </a:r>
            <a:br>
              <a:rPr sz="3200"/>
            </a:br>
            <a:endParaRPr b="0" lang="en-US" sz="32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c,ğ, l, m, n, r, v, z </a:t>
            </a:r>
            <a:r>
              <a:rPr b="0" lang="tr-TR" sz="2800" spc="-1" strike="noStrike">
                <a:solidFill>
                  <a:srgbClr val="000000"/>
                </a:solidFill>
                <a:latin typeface="Times New Roman"/>
                <a:ea typeface="Times New Roman"/>
              </a:rPr>
              <a:t> sesleri Türkçe kelimelerde başta bulunma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Cehennem, lira, metal, naylon, reçel, vakum, zaman vb. </a:t>
            </a:r>
            <a:r>
              <a:rPr b="0" lang="tr-TR" sz="2800" spc="-1" strike="noStrike">
                <a:solidFill>
                  <a:srgbClr val="000000"/>
                </a:solidFill>
                <a:latin typeface="Times New Roman"/>
                <a:ea typeface="Times New Roman"/>
              </a:rPr>
              <a:t>kelimeler Türkçeye başka dillerden girmişt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yüzden halk dilinde bu sesleri başında taşıyan bazı kelimelerin başına ünlü ilave edil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Limon&gt;ilim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Ramazan&gt; ıramaz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5.SONDA BULUNMAYAN SESLER</a:t>
            </a:r>
            <a:endParaRPr b="0" lang="en-US" sz="32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b,c,d,g,ğ </a:t>
            </a:r>
            <a:r>
              <a:rPr b="0" lang="tr-TR" sz="3200" spc="-1" strike="noStrike">
                <a:solidFill>
                  <a:srgbClr val="000000"/>
                </a:solidFill>
                <a:latin typeface="Times New Roman"/>
                <a:ea typeface="Times New Roman"/>
              </a:rPr>
              <a:t>sesleri kelime ve hece sonunda bulunmaz. Alıntı kelimelerdeki bu sesler sert karşılıkları olan </a:t>
            </a:r>
            <a:r>
              <a:rPr b="0" lang="tr-TR" sz="3200" spc="-1" strike="noStrike">
                <a:solidFill>
                  <a:srgbClr val="ff0000"/>
                </a:solidFill>
                <a:latin typeface="Times New Roman"/>
                <a:ea typeface="Times New Roman"/>
              </a:rPr>
              <a:t>p,ç,t,k</a:t>
            </a:r>
            <a:r>
              <a:rPr b="0" lang="tr-TR" sz="3200" spc="-1" strike="noStrike">
                <a:solidFill>
                  <a:srgbClr val="000000"/>
                </a:solidFill>
                <a:latin typeface="Times New Roman"/>
                <a:ea typeface="Times New Roman"/>
              </a:rPr>
              <a:t> ünsüzlerine çevrilir:</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kitab &gt; kitap</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İlac &gt; ilaç</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Derd &gt; dert</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Aheng &gt; ahenk</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6. İKİZ ÜNSÜZ</a:t>
            </a:r>
            <a:endParaRPr b="0" lang="en-US" sz="32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çe asıllı kelime köklerinde bir iki istisna dışında (anne, elli) ikiz ünsüz bulunmaz:</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	</a:t>
            </a:r>
            <a:r>
              <a:rPr b="0" lang="tr-TR" sz="3200" spc="-1" strike="noStrike">
                <a:solidFill>
                  <a:srgbClr val="ff0000"/>
                </a:solidFill>
                <a:latin typeface="Times New Roman"/>
                <a:ea typeface="Times New Roman"/>
              </a:rPr>
              <a:t>Millet,okka, mahalle, cadde, pizza, ralli v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7. KELİME KÖKÜNDEKİ ÜNSÜZLER</a:t>
            </a:r>
            <a:endParaRPr b="0" lang="en-US" sz="32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elime kökünde ikiden fazla ünsüz yan yana gelme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ff0000"/>
                </a:solidFill>
                <a:latin typeface="Times New Roman"/>
                <a:ea typeface="Times New Roman"/>
              </a:rPr>
              <a:t>Elektrik, kontrol, strateji vb.</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Peki “Türkçe” kelimesi Türkçe m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1:38:40Z</dcterms:created>
  <dc:creator>tuba</dc:creator>
  <dc:description/>
  <dc:language>en-US</dc:language>
  <cp:lastModifiedBy>tuba</cp:lastModifiedBy>
  <dcterms:modified xsi:type="dcterms:W3CDTF">2014-10-15T11:15:38Z</dcterms:modified>
  <cp:revision>60</cp:revision>
  <dc:subject/>
  <dc:title>Slayt 1</dc:title>
</cp:coreProperties>
</file>